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99B-8BAD-42BA-BC63-3DD2203D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B14-3E58-4D16-880A-5605A7B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259-B0F0-4FF4-8C8D-E130E11D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830-A867-42C9-BEB4-D5A7D2CE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8AD-BF0B-4F9B-8D03-665E2A9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416-3770-45CA-B339-DE2D56D2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584-E5A5-4AD1-B68A-70F8136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D06-AF40-4C16-9CEA-D5EF781A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94E-30B9-49EB-BBC6-7FA52BB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617-848C-47AC-8182-768C25E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1A1-B97F-4CA6-AA1E-58D3744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E42-B705-4026-A9DD-D19865B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3BA-6BAC-4CDB-8CFF-2CF11E33C0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effersonbioballard.wikispaces.com/assignment2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Regulation in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ew Ter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moter reg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upstream important for binding in 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ler/operator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Operon bind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ct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allow items in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a-galactosid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acetylase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"/>
          <p:cNvSpPr/>
          <p:nvPr/>
        </p:nvSpPr>
        <p:spPr>
          <a:xfrm>
            <a:off x="0" y="274320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ok at the D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2971800"/>
            <a:ext cx="16002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00200" y="2971800"/>
            <a:ext cx="2133720" cy="914400"/>
          </a:xfrm>
          <a:prstGeom prst="rect">
            <a:avLst/>
          </a:prstGeom>
          <a:solidFill>
            <a:srgbClr val="f0e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733920" y="2971800"/>
            <a:ext cx="3429000" cy="9144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7162920" y="2971800"/>
            <a:ext cx="1981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4191120" y="3885840"/>
            <a:ext cx="914400" cy="609480"/>
          </a:xfrm>
          <a:prstGeom prst="line">
            <a:avLst/>
          </a:prstGeom>
          <a:ln w="633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114800" y="4419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A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82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92" name="Rectangle 2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28600" y="4191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03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28600" y="4191120"/>
            <a:ext cx="8763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15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28600" y="4191120"/>
            <a:ext cx="8763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no lactose present, the inhibitor is bound to the operator (Operon)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28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 for polymerase to reach where it needs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solutio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3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bf1"/>
                </a:solidFill>
                <a:latin typeface="Arial"/>
              </a:rPr>
              <a:t>What’s Lactose again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42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28600" y="41911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solutio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binds to the inhib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1676520" y="1752480"/>
            <a:ext cx="1981080" cy="198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3505320" y="0"/>
            <a:ext cx="53316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8610480" y="3962520"/>
            <a:ext cx="533520" cy="5331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1219320" y="0"/>
            <a:ext cx="53316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0" y="4114800"/>
            <a:ext cx="533520" cy="5335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4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6 -0.11111 E">
                                      <p:cBhvr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17916 -0.13889 E">
                                      <p:cBhvr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07083 0.22778 E">
                                      <p:cBhvr>
                                        <p:cTn id="15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0875 0.22778 E">
                                      <p:cBhvr>
                                        <p:cTn id="15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gene regul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a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the protein for the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making a protei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for determining when transcrip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hat factors determine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59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binds to the inhib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1676520" y="1447920"/>
            <a:ext cx="1981080" cy="2361960"/>
            <a:chOff x="1676520" y="1447920"/>
            <a:chExt cx="1981080" cy="2361960"/>
          </a:xfrm>
        </p:grpSpPr>
        <p:sp>
          <p:nvSpPr>
            <p:cNvPr id="171" name="Oval 13"/>
            <p:cNvSpPr/>
            <p:nvPr/>
          </p:nvSpPr>
          <p:spPr>
            <a:xfrm>
              <a:off x="1676520" y="1752480"/>
              <a:ext cx="1981080" cy="19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nhibito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2666880" y="14479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297180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1752480" y="1600200"/>
              <a:ext cx="533520" cy="5335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175248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6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77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Polymerase can now tran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1676520" y="1447920"/>
            <a:ext cx="1981080" cy="2361960"/>
            <a:chOff x="1676520" y="1447920"/>
            <a:chExt cx="1981080" cy="2361960"/>
          </a:xfrm>
        </p:grpSpPr>
        <p:sp>
          <p:nvSpPr>
            <p:cNvPr id="189" name="Oval 15"/>
            <p:cNvSpPr/>
            <p:nvPr/>
          </p:nvSpPr>
          <p:spPr>
            <a:xfrm>
              <a:off x="1676520" y="1752480"/>
              <a:ext cx="1981080" cy="198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nhibito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2666880" y="14479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297180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8"/>
            <p:cNvSpPr/>
            <p:nvPr/>
          </p:nvSpPr>
          <p:spPr>
            <a:xfrm>
              <a:off x="1752480" y="1600200"/>
              <a:ext cx="533520" cy="5335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"/>
            <p:cNvSpPr/>
            <p:nvPr/>
          </p:nvSpPr>
          <p:spPr>
            <a:xfrm>
              <a:off x="1752480" y="3276720"/>
              <a:ext cx="533520" cy="5331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44444E-006 L 0.10416 0.00555 E">
                                      <p:cBhvr>
                                        <p:cTn id="16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62777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195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419112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ose causes inhibitor no longer bind 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 Polymerase can now tran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228600" y="914400"/>
            <a:ext cx="7086600" cy="914400"/>
            <a:chOff x="228600" y="914400"/>
            <a:chExt cx="7086600" cy="914400"/>
          </a:xfrm>
        </p:grpSpPr>
        <p:sp>
          <p:nvSpPr>
            <p:cNvPr id="207" name="Rectangle 20"/>
            <p:cNvSpPr/>
            <p:nvPr/>
          </p:nvSpPr>
          <p:spPr>
            <a:xfrm>
              <a:off x="3733920" y="1295280"/>
              <a:ext cx="3581280" cy="5335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CCCCGCCCCCGCCCCCUA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 flipV="1">
              <a:off x="1523520" y="1295280"/>
              <a:ext cx="221004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228600" y="9144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N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7625 -0.00556 E">
                                      <p:cBhvr>
                                        <p:cTn id="176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ree mRNA “recipes” are mad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m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 allow items into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a-galactosid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acety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also get translat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213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28600" y="419112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ription continues to occur until lactose levels get low in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228600" y="914400"/>
            <a:ext cx="7086600" cy="914400"/>
            <a:chOff x="228600" y="914400"/>
            <a:chExt cx="7086600" cy="914400"/>
          </a:xfrm>
        </p:grpSpPr>
        <p:sp>
          <p:nvSpPr>
            <p:cNvPr id="225" name="Rectangle 15"/>
            <p:cNvSpPr/>
            <p:nvPr/>
          </p:nvSpPr>
          <p:spPr>
            <a:xfrm>
              <a:off x="3733920" y="1295280"/>
              <a:ext cx="3581280" cy="5335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CCCCGCCCCCGCCCCCUA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H="1" flipV="1">
              <a:off x="1523520" y="1295280"/>
              <a:ext cx="221004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228600" y="9144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N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7625 -0.00556 E">
                                      <p:cBhvr>
                                        <p:cTn id="184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1828800"/>
            <a:ext cx="9144000" cy="1828440"/>
            <a:chOff x="0" y="1828800"/>
            <a:chExt cx="9144000" cy="1828440"/>
          </a:xfrm>
        </p:grpSpPr>
        <p:sp>
          <p:nvSpPr>
            <p:cNvPr id="229" name="Rectangle 3"/>
            <p:cNvSpPr/>
            <p:nvPr/>
          </p:nvSpPr>
          <p:spPr>
            <a:xfrm>
              <a:off x="0" y="1828800"/>
              <a:ext cx="914400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0" y="2151360"/>
              <a:ext cx="9144000" cy="12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0" y="2151360"/>
              <a:ext cx="1600200" cy="1290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mot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600200" y="2151360"/>
              <a:ext cx="2133720" cy="1290600"/>
            </a:xfrm>
            <a:prstGeom prst="rect">
              <a:avLst/>
            </a:prstGeom>
            <a:solidFill>
              <a:srgbClr val="f0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3733920" y="2151360"/>
              <a:ext cx="3429000" cy="12906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ding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7162920" y="2151360"/>
              <a:ext cx="1981080" cy="12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rminato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qu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 in a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28600" y="4191120"/>
            <a:ext cx="8763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ription continues to occur until lactose levels get low in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inhibitor binds back into the operator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6320" y="18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TATATATATATATATATATATAGGGGGCCGGGGCGGGGGATATCGCATACA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320" y="342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ATATATATATATATATATATATCCCCCGGCCCCGCCCCCCTATAGCGTATGT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0" y="2057400"/>
            <a:ext cx="1447920" cy="14479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600200" y="-685800"/>
            <a:ext cx="198108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9583 -0.00556 E">
                                      <p:cBhvr>
                                        <p:cTn id="19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9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simplegene.jpg"/>
          <p:cNvPicPr/>
          <p:nvPr/>
        </p:nvPicPr>
        <p:blipFill>
          <a:blip r:embed="rId1"/>
          <a:stretch/>
        </p:blipFill>
        <p:spPr>
          <a:xfrm>
            <a:off x="2652840" y="2766960"/>
            <a:ext cx="38383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Introns and Ex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664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ic DNA differs from prokaryotic DNA it that the coding sequences along the gene are interspersed with noncoding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ding sequences are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 coding sequences are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981000" y="114480"/>
            <a:ext cx="74008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1030320"/>
            <a:ext cx="7386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27466" t="9846" r="26466" b="6077"/>
          <a:stretch/>
        </p:blipFill>
        <p:spPr>
          <a:xfrm>
            <a:off x="17524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E. 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s the balance between enzyme and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happens when we make protein?-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s, transcription, translation- don’t forget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of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b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make sure we can make proteins only when we ne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lights only when we need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get electricity in this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8147b74c-6d27-49bf-bb62-ac281cab4056_300"/>
          <p:cNvPicPr/>
          <p:nvPr/>
        </p:nvPicPr>
        <p:blipFill>
          <a:blip r:embed="rId1"/>
          <a:srcRect l="0" t="34669" r="0" b="33336"/>
          <a:stretch/>
        </p:blipFill>
        <p:spPr>
          <a:xfrm>
            <a:off x="2666880" y="5257800"/>
            <a:ext cx="3962520" cy="126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isting_image_4860"/>
          <p:cNvPicPr/>
          <p:nvPr/>
        </p:nvPicPr>
        <p:blipFill>
          <a:blip r:embed="rId2"/>
          <a:stretch/>
        </p:blipFill>
        <p:spPr>
          <a:xfrm>
            <a:off x="7924680" y="228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listing_image_4860"/>
          <p:cNvPicPr/>
          <p:nvPr/>
        </p:nvPicPr>
        <p:blipFill>
          <a:blip r:embed="rId3"/>
          <a:stretch/>
        </p:blipFill>
        <p:spPr>
          <a:xfrm>
            <a:off x="228600" y="304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abou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- 1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- one s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s cir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400px-Prokaryote_cell_diagram"/>
          <p:cNvPicPr/>
          <p:nvPr/>
        </p:nvPicPr>
        <p:blipFill>
          <a:blip r:embed="rId1"/>
          <a:stretch/>
        </p:blipFill>
        <p:spPr>
          <a:xfrm>
            <a:off x="3429000" y="3657600"/>
            <a:ext cx="39625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our old buddies are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i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3d_model_DNA_w_phosphate_1"/>
          <p:cNvPicPr/>
          <p:nvPr/>
        </p:nvPicPr>
        <p:blipFill>
          <a:blip r:embed="rId1"/>
          <a:stretch/>
        </p:blipFill>
        <p:spPr>
          <a:xfrm>
            <a:off x="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transfactor"/>
          <p:cNvPicPr/>
          <p:nvPr/>
        </p:nvPicPr>
        <p:blipFill>
          <a:blip r:embed="rId2"/>
          <a:stretch/>
        </p:blipFill>
        <p:spPr>
          <a:xfrm>
            <a:off x="4648320" y="3809880"/>
            <a:ext cx="4286160" cy="26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nareplication"/>
          <p:cNvPicPr/>
          <p:nvPr/>
        </p:nvPicPr>
        <p:blipFill>
          <a:blip r:embed="rId3"/>
          <a:srcRect l="59168" t="31781" r="15837" b="23738"/>
          <a:stretch/>
        </p:blipFill>
        <p:spPr>
          <a:xfrm>
            <a:off x="2209680" y="426708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3276720" y="20574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yme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ideo Time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7" name="Picture 5" descr="">
            <a:hlinkClick r:id="rId1"/>
          </p:cNvPr>
          <p:cNvPicPr/>
          <p:nvPr/>
        </p:nvPicPr>
        <p:blipFill>
          <a:blip r:embed="rId2"/>
          <a:srcRect l="28126" t="21878" r="9376" b="10420"/>
          <a:stretch/>
        </p:blipFill>
        <p:spPr>
          <a:xfrm>
            <a:off x="1600200" y="1295280"/>
            <a:ext cx="6095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1:48:48Z</dcterms:created>
  <dc:creator>daballard</dc:creator>
  <dc:description/>
  <dc:language>en-US</dc:language>
  <cp:lastModifiedBy>O'Connor John</cp:lastModifiedBy>
  <dcterms:modified xsi:type="dcterms:W3CDTF">2012-01-17T16:38:41Z</dcterms:modified>
  <cp:revision>6</cp:revision>
  <dc:subject/>
  <dc:title>Lac Operon and the TATA box</dc:title>
</cp:coreProperties>
</file>